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7D87-87E2-4DD3-B9F8-1778B5745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0D77-4069-466E-9437-99A5A8988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FF65-6112-49E9-A8B1-8BDCEB127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4984-8508-4407-828F-F15608ED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6CCA-A309-4783-A5E1-513F840EB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DED-2BBA-437D-8879-577B52CB2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F44E-1FC7-4F9D-991D-517BC345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2C45-4690-4D14-812B-30766363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6817-190E-43E2-B7C1-76361DAC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ield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technique used to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ximize Room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sed for reservations of a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erishable Commod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tel Ro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irplane S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al C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ruise Ship Cab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tels are shifting from High-Volume to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  High-Profit boo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ecasting Rooms Re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Forecasted Annual Rooms Revenue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Rooms 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Occupancy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ercenta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Daily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ooms Available = Total Rooms X 365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514240" y="3200400"/>
            <a:ext cx="305280" cy="380880"/>
            <a:chOff x="2514240" y="3200400"/>
            <a:chExt cx="305280" cy="380880"/>
          </a:xfrm>
        </p:grpSpPr>
        <p:sp>
          <p:nvSpPr>
            <p:cNvPr id="101" name="Line 5"/>
            <p:cNvSpPr/>
            <p:nvPr/>
          </p:nvSpPr>
          <p:spPr>
            <a:xfrm flipH="1">
              <a:off x="251424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251460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5866920" y="3200400"/>
            <a:ext cx="305280" cy="380880"/>
            <a:chOff x="5866920" y="3200400"/>
            <a:chExt cx="305280" cy="380880"/>
          </a:xfrm>
        </p:grpSpPr>
        <p:sp>
          <p:nvSpPr>
            <p:cNvPr id="104" name="Line 8"/>
            <p:cNvSpPr/>
            <p:nvPr/>
          </p:nvSpPr>
          <p:spPr>
            <a:xfrm flipH="1">
              <a:off x="586692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5867280" y="3200400"/>
              <a:ext cx="304920" cy="380880"/>
            </a:xfrm>
            <a:prstGeom prst="line">
              <a:avLst/>
            </a:prstGeom>
            <a:ln w="63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</p:grpSp>
      <p:sp>
        <p:nvSpPr>
          <p:cNvPr id="106" name="WordArt 10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ecasting Rooms Revenu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100 Room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00 x 365 days  = 36,500 Room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75% Occupancy 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.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$50 Average Daily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500" spc="-1" strike="noStrike">
                <a:solidFill>
                  <a:srgbClr val="d60093"/>
                </a:solidFill>
                <a:latin typeface="Times New Roman"/>
              </a:rPr>
              <a:t>36,500 x .75 x $50 = $1,368,75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533520" y="10666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Hotel Operational Statis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Occupancy Percent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The most commonly used operating rati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Average Daily Rate (AD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Average of all room types and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Revenue per Available Room (RevPAR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Measures revenue capabilities of hot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WordArt 1028"/>
          <p:cNvSpPr txBox="1"/>
          <p:nvPr/>
        </p:nvSpPr>
        <p:spPr>
          <a:xfrm>
            <a:off x="533520" y="10666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0492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Occupancy Percent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d60093"/>
                </a:solidFill>
                <a:uFillTx/>
                <a:latin typeface="Times New Roman"/>
              </a:rPr>
              <a:t>Number of Rooms Occupied    </a:t>
            </a:r>
            <a:br>
              <a:rPr sz="3500"/>
            </a:br>
            <a:r>
              <a:rPr b="1" lang="en-US" sz="3500" spc="-1" strike="noStrike">
                <a:solidFill>
                  <a:srgbClr val="d60093"/>
                </a:solidFill>
                <a:latin typeface="Times New Roman"/>
              </a:rPr>
              <a:t>Number of Rooms Availab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What does rooms occupied includ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Rooms sold + comp roo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What does rooms available includ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Use the rooms availability formu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60093"/>
                </a:solidFill>
                <a:latin typeface="Times New Roman"/>
              </a:rPr>
              <a:t>2000 = 63.9%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-38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ccupancy Percentag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Number of Rooms Occupied    </a:t>
            </a:r>
            <a:br>
              <a:rPr sz="3300"/>
            </a:b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Rooms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Sold 95 rooms with 5 com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room hotel with 25 out of ord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95 + 5 =       100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- 25 =     12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019920" y="49528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80%</a:t>
            </a:r>
            <a:endParaRPr b="0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Daily Occupancy 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0" y="1766880"/>
          <a:ext cx="9144000" cy="50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6880"/>
                    <a:ext cx="914400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verage Daily Rate (AD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Rooms Revenue    </a:t>
            </a:r>
            <a:br>
              <a:rPr sz="3300"/>
            </a:b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Rooms So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Number of Rooms Sold may or may not include com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1999 = $81.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533520" y="11430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verage Daily Rat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05120"/>
            <a:ext cx="90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Rooms Revenue    </a:t>
            </a:r>
            <a:br>
              <a:rPr sz="3300"/>
            </a:b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Rooms So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$10,000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Sold 95 rooms with 5 comp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 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 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95 + 5 =           100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095880" y="53341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533520" y="12952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enue per Available Room (RevP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Actual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Available Roo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or: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Occupancy Percentage  x  AD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Times New Roman"/>
              </a:rPr>
              <a:t>1999 = $51.50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533520" y="12952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vPa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d60093"/>
                </a:solidFill>
                <a:uFillTx/>
                <a:latin typeface="Times New Roman"/>
              </a:rPr>
              <a:t>Actual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d60093"/>
                </a:solidFill>
                <a:latin typeface="Times New Roman"/>
              </a:rPr>
              <a:t>Number of Available Roo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$10,000 Rooms Revenu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room hotel with 25 out of ord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$10,000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3333cc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150 - 25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3333cc"/>
                </a:solidFill>
                <a:latin typeface="Times New Roman"/>
              </a:rPr>
              <a:t>    12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248520" y="51055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$80</a:t>
            </a:r>
            <a:endParaRPr b="0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10210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Demand exceeds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rease Rates to Maximize 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Supply exceeds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crease Rates to Maximize Occup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6019920" y="1828800"/>
            <a:ext cx="1523880" cy="2151000"/>
            <a:chOff x="6019920" y="1828800"/>
            <a:chExt cx="1523880" cy="2151000"/>
          </a:xfrm>
        </p:grpSpPr>
        <p:grpSp>
          <p:nvGrpSpPr>
            <p:cNvPr id="51" name="Group 13"/>
            <p:cNvGrpSpPr/>
            <p:nvPr/>
          </p:nvGrpSpPr>
          <p:grpSpPr>
            <a:xfrm>
              <a:off x="6781680" y="2666880"/>
              <a:ext cx="762120" cy="1312920"/>
              <a:chOff x="6781680" y="2666880"/>
              <a:chExt cx="762120" cy="1312920"/>
            </a:xfrm>
          </p:grpSpPr>
          <p:sp>
            <p:nvSpPr>
              <p:cNvPr id="52" name="Line 4"/>
              <p:cNvSpPr/>
              <p:nvPr/>
            </p:nvSpPr>
            <p:spPr>
              <a:xfrm flipV="1">
                <a:off x="7543800" y="2971800"/>
                <a:ext cx="0" cy="914400"/>
              </a:xfrm>
              <a:prstGeom prst="line">
                <a:avLst/>
              </a:prstGeom>
              <a:ln w="5724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53" name="Text Box 5"/>
              <p:cNvSpPr/>
              <p:nvPr/>
            </p:nvSpPr>
            <p:spPr>
              <a:xfrm>
                <a:off x="6781680" y="2666880"/>
                <a:ext cx="7016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339966"/>
                    </a:solidFill>
                    <a:latin typeface="Tahoma"/>
                  </a:rPr>
                  <a:t>$</a:t>
                </a:r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</p:grpSp>
        <p:pic>
          <p:nvPicPr>
            <p:cNvPr id="54" name="Picture 8" descr="C:\Program Files\Microsoft Office\Clipart\Pub60Cor\bl00247_.wmf"/>
            <p:cNvPicPr/>
            <p:nvPr/>
          </p:nvPicPr>
          <p:blipFill>
            <a:blip r:embed="rId1"/>
            <a:stretch/>
          </p:blipFill>
          <p:spPr>
            <a:xfrm>
              <a:off x="6019920" y="1828800"/>
              <a:ext cx="1295280" cy="94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7"/>
          <p:cNvGrpSpPr/>
          <p:nvPr/>
        </p:nvGrpSpPr>
        <p:grpSpPr>
          <a:xfrm>
            <a:off x="5943600" y="4419720"/>
            <a:ext cx="2514600" cy="2151000"/>
            <a:chOff x="5943600" y="4419720"/>
            <a:chExt cx="2514600" cy="2151000"/>
          </a:xfrm>
        </p:grpSpPr>
        <p:grpSp>
          <p:nvGrpSpPr>
            <p:cNvPr id="56" name="Group 14"/>
            <p:cNvGrpSpPr/>
            <p:nvPr/>
          </p:nvGrpSpPr>
          <p:grpSpPr>
            <a:xfrm>
              <a:off x="7467480" y="5257800"/>
              <a:ext cx="762120" cy="1312920"/>
              <a:chOff x="7467480" y="5257800"/>
              <a:chExt cx="762120" cy="1312920"/>
            </a:xfrm>
          </p:grpSpPr>
          <p:sp>
            <p:nvSpPr>
              <p:cNvPr id="57" name="Text Box 6"/>
              <p:cNvSpPr/>
              <p:nvPr/>
            </p:nvSpPr>
            <p:spPr>
              <a:xfrm>
                <a:off x="7467480" y="5257800"/>
                <a:ext cx="6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339966"/>
                    </a:solidFill>
                    <a:latin typeface="Tahoma"/>
                  </a:rPr>
                  <a:t>$</a:t>
                </a:r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8229600" y="5562720"/>
                <a:ext cx="0" cy="838080"/>
              </a:xfrm>
              <a:prstGeom prst="line">
                <a:avLst/>
              </a:prstGeom>
              <a:ln w="5724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</p:grpSp>
        <p:pic>
          <p:nvPicPr>
            <p:cNvPr id="59" name="Picture 9" descr="C:\Program Files\Microsoft Office\Clipart\Pub60Cor\bl00247_.wmf"/>
            <p:cNvPicPr/>
            <p:nvPr/>
          </p:nvPicPr>
          <p:blipFill>
            <a:blip r:embed="rId2"/>
            <a:stretch/>
          </p:blipFill>
          <p:spPr>
            <a:xfrm>
              <a:off x="7162920" y="4419720"/>
              <a:ext cx="1295280" cy="94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0" descr="C:\Program Files\Microsoft Office\Clipart\Pub60Cor\bl00247_.wmf"/>
            <p:cNvPicPr/>
            <p:nvPr/>
          </p:nvPicPr>
          <p:blipFill>
            <a:blip r:embed="rId3"/>
            <a:stretch/>
          </p:blipFill>
          <p:spPr>
            <a:xfrm>
              <a:off x="5943600" y="4419720"/>
              <a:ext cx="1295280" cy="9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WordArt 11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-766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t Formula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Bottom-up”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Begin with </a:t>
            </a:r>
            <a:r>
              <a:rPr b="0" lang="en-US" sz="2600" spc="-1" strike="noStrike" u="sng">
                <a:solidFill>
                  <a:srgbClr val="d60093"/>
                </a:solidFill>
                <a:uFillTx/>
                <a:latin typeface="Times New Roman"/>
              </a:rPr>
              <a:t>desired profit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based upon expected Return on Investment (RO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ts val="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Calculate pretax profits, fixed charge, management fees, &amp; operating expen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Estimate other departmental inc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termine the required rooms department inc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Add expenses to get rooms department reven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15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Room Revenue / Rooms Sold = Average Room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533520" y="6858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5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0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5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0" dur="5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-30492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d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533520" y="5335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304920" y="971640"/>
          <a:ext cx="8534160" cy="58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71640"/>
                    <a:ext cx="853416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-22860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d Formula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Owner Investment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rincipal Loan Amount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?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ROI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15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Tax Rate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40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Annual Interest Rate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12%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epreciation &amp; Insuran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40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income before interest &amp; tax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Undistributed Operating Expen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60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income before fixed char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1028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bbard Formula Fig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Other department gains &amp; loss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F&amp;B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5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required operated depts. reven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Phone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2%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of required operated depts. Reven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Annual rooms sold 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??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Depends on your occupancy percent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Rooms department direct expen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$10</a:t>
            </a: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 per room so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lasticity of De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w sensitive is demand to a change in pr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60093"/>
                </a:solidFill>
                <a:latin typeface="Times New Roman"/>
              </a:rPr>
              <a:t>ELASTIC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Demand is very sensitive to pr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d60093"/>
                </a:solidFill>
                <a:latin typeface="Times New Roman"/>
              </a:rPr>
              <a:t>INELASTIC</a:t>
            </a:r>
            <a:r>
              <a:rPr b="0" lang="en-US" sz="35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76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Demand is not sensitive to pric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uest Booking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609480" y="8380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V="1">
            <a:off x="7620120" y="1447560"/>
            <a:ext cx="0" cy="4724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68" name="Group 22"/>
          <p:cNvGrpSpPr/>
          <p:nvPr/>
        </p:nvGrpSpPr>
        <p:grpSpPr>
          <a:xfrm>
            <a:off x="76320" y="1371600"/>
            <a:ext cx="8261280" cy="5397480"/>
            <a:chOff x="76320" y="1371600"/>
            <a:chExt cx="8261280" cy="5397480"/>
          </a:xfrm>
        </p:grpSpPr>
        <p:sp>
          <p:nvSpPr>
            <p:cNvPr id="69" name="Freeform 15"/>
            <p:cNvSpPr/>
            <p:nvPr/>
          </p:nvSpPr>
          <p:spPr>
            <a:xfrm>
              <a:off x="1219320" y="1936800"/>
              <a:ext cx="6154560" cy="4006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0" spc="-1" strike="noStrike">
                <a:solidFill>
                  <a:srgbClr val="339966"/>
                </a:solidFill>
                <a:latin typeface="Tahoma"/>
              </a:endParaRPr>
            </a:p>
          </p:txBody>
        </p:sp>
        <p:grpSp>
          <p:nvGrpSpPr>
            <p:cNvPr id="70" name="Group 21"/>
            <p:cNvGrpSpPr/>
            <p:nvPr/>
          </p:nvGrpSpPr>
          <p:grpSpPr>
            <a:xfrm>
              <a:off x="76320" y="1371600"/>
              <a:ext cx="8261280" cy="5397480"/>
              <a:chOff x="76320" y="1371600"/>
              <a:chExt cx="8261280" cy="5397480"/>
            </a:xfrm>
          </p:grpSpPr>
          <p:sp>
            <p:nvSpPr>
              <p:cNvPr id="71" name="Text Box 6"/>
              <p:cNvSpPr/>
              <p:nvPr/>
            </p:nvSpPr>
            <p:spPr>
              <a:xfrm>
                <a:off x="3124080" y="6324480"/>
                <a:ext cx="2667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Days before arrival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2" name="Text Box 7"/>
              <p:cNvSpPr/>
              <p:nvPr/>
            </p:nvSpPr>
            <p:spPr>
              <a:xfrm>
                <a:off x="1371600" y="64008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8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3" name="Text Box 8"/>
              <p:cNvSpPr/>
              <p:nvPr/>
            </p:nvSpPr>
            <p:spPr>
              <a:xfrm>
                <a:off x="7238880" y="64008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graphicFrame>
            <p:nvGraphicFramePr>
              <p:cNvPr id="74" name="Object 10"/>
              <p:cNvGraphicFramePr/>
              <p:nvPr/>
            </p:nvGraphicFramePr>
            <p:xfrm>
              <a:off x="689040" y="1973160"/>
              <a:ext cx="3792600" cy="4116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5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89040" y="1973160"/>
                        <a:ext cx="3792600" cy="411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" name="Line 11"/>
              <p:cNvSpPr/>
              <p:nvPr/>
            </p:nvSpPr>
            <p:spPr>
              <a:xfrm>
                <a:off x="1219320" y="6172200"/>
                <a:ext cx="64008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7" name="Freeform 13"/>
              <p:cNvSpPr/>
              <p:nvPr/>
            </p:nvSpPr>
            <p:spPr>
              <a:xfrm>
                <a:off x="1219320" y="1868400"/>
                <a:ext cx="6213240" cy="4151520"/>
              </a:xfrm>
              <a:prstGeom prst="pie">
                <a:avLst/>
              </a:pr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8" name="Text Box 16"/>
              <p:cNvSpPr/>
              <p:nvPr/>
            </p:nvSpPr>
            <p:spPr>
              <a:xfrm>
                <a:off x="7852320" y="3048120"/>
                <a:ext cx="485280" cy="160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Reservations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79" name="Text Box 18"/>
              <p:cNvSpPr/>
              <p:nvPr/>
            </p:nvSpPr>
            <p:spPr>
              <a:xfrm>
                <a:off x="228600" y="1447920"/>
                <a:ext cx="2209680" cy="10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99"/>
                    </a:solidFill>
                    <a:latin typeface="Arial"/>
                  </a:rPr>
                  <a:t>Business</a:t>
                </a:r>
                <a:endParaRPr b="0" lang="en-US" sz="2600" spc="-1" strike="noStrike">
                  <a:solidFill>
                    <a:srgbClr val="339966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ff0000"/>
                    </a:solidFill>
                    <a:latin typeface="Arial"/>
                  </a:rPr>
                  <a:t>Leisure</a:t>
                </a:r>
                <a:endParaRPr b="0" lang="en-US" sz="26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80" name="Text Box 19"/>
              <p:cNvSpPr/>
              <p:nvPr/>
            </p:nvSpPr>
            <p:spPr>
              <a:xfrm>
                <a:off x="6248520" y="13716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Inelastic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  <p:sp>
            <p:nvSpPr>
              <p:cNvPr id="81" name="Text Box 20"/>
              <p:cNvSpPr/>
              <p:nvPr/>
            </p:nvSpPr>
            <p:spPr>
              <a:xfrm>
                <a:off x="76320" y="541008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Arial"/>
                  </a:rPr>
                  <a:t>Elastic</a:t>
                </a:r>
                <a:endParaRPr b="0" lang="en-US" sz="2000" spc="-1" strike="noStrike">
                  <a:solidFill>
                    <a:srgbClr val="339966"/>
                  </a:solidFill>
                  <a:latin typeface="Tahoma"/>
                </a:endParaRPr>
              </a:p>
            </p:txBody>
          </p:sp>
        </p:grpSp>
      </p:grp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 Stat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d60093"/>
                </a:solidFill>
                <a:uFillTx/>
                <a:latin typeface="Times New Roman"/>
              </a:rPr>
              <a:t>Actual Rooms Revenu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60093"/>
                </a:solidFill>
                <a:latin typeface="Times New Roman"/>
              </a:rPr>
              <a:t>Potential Rooms Revenu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cc"/>
                </a:solidFill>
                <a:latin typeface="Times New Roman"/>
              </a:rPr>
              <a:t>Potential Rooms Revenu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room sold at full rack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# Rooms x 365 days x Rack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ield Manage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Discount Allo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Manage discounted room ra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Encourage upsell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Duration Contr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Place time constraints on reserva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May reject reservation requests</a:t>
            </a:r>
            <a:br>
              <a:rPr sz="2900"/>
            </a:b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60093"/>
                </a:solidFill>
                <a:latin typeface="Times New Roman"/>
              </a:rPr>
              <a:t>Combin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Times New Roman"/>
              </a:rPr>
              <a:t>Discounts for 3 nights, but rack for 1 nigh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763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at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Minimum Length of St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Reservation for a certain number of nigh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Close to Arri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Guest must arrive before a certain 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Limit number of check-ins on a given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0093"/>
                </a:solidFill>
                <a:latin typeface="Times New Roman"/>
              </a:rPr>
              <a:t>Sell-throug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Similar to minimum sta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Sell days around a peak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0948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4000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om Dis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Hurdl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Minimum room rate for a given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Occurs when a hotel accepts group business at the expense of transi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Wash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5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letion of group room blo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oms Availability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50 Guestro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  5 Out of 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45 Stayo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50 Re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+ 10% No-s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+   5 Underst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   20 Overst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d60093"/>
                </a:solidFill>
                <a:latin typeface="Times New Roman"/>
              </a:rPr>
              <a:t>40 Rooms Available for Sal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914400" y="5867280"/>
            <a:ext cx="777240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8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533520" y="990720"/>
            <a:ext cx="8001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1:11:57Z</dcterms:created>
  <dc:creator>Human Science Department</dc:creator>
  <dc:description/>
  <dc:language>en-US</dc:language>
  <cp:lastModifiedBy>robert</cp:lastModifiedBy>
  <dcterms:modified xsi:type="dcterms:W3CDTF">2011-04-14T02:38:04Z</dcterms:modified>
  <cp:revision>62</cp:revision>
  <dc:subject/>
  <dc:title>The Four Steps of a Marketing Plan</dc:title>
</cp:coreProperties>
</file>